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BFF-B2FF-4AD1-BB06-78817FF6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3CB-B669-4758-BDFC-8B1C4444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2EA-83C6-40B8-A7FC-401FE68E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E2CA-3C5F-4434-A029-D674C98E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4AA7-1DD8-4192-B073-5C64116B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8FA-BDFF-49B3-8E70-85F4048F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DDC3-B6D6-4975-B5CC-72B545D8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B167-1D43-4693-B12A-7AC0FB4A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793A-4B8E-4AD8-80AA-E1070C58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EA5E-E8C0-473B-8122-CB2A8DA4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A9E-20E5-4795-89F0-E7B9E23C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445-8B5D-4D6C-9E5D-BB6A3A34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BA8B-F8D3-4FF3-AC7C-984898E51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بعرض  سعر  لبرنامج   (   المعتمد)    لادارة  وبيع وشراء وتأجير العقارات حيث ي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البرنامج على تنفيذ جميع الإجراءات من خلال عدة بنود إدارية أساسية وهي كالتالي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قاعدة بيانات لاستيعاب مالا نهاية من البيانا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تنبيه بالمستأجرين المتأخرين بدفع الإيجار- تنبيه بعقود الإيجار التي أوشكت عل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انتهاء - تنبيه بالشقق الخالية - تنبيه بموعد قضايا المستأجرين - تنبيه بال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إدخال بيانات العقار - المستأجرين - الصيانة  - فواتـير -  سندات الصرف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لمصروفات - الإيرادات  - سلوكيات المستأجرين - متابعة  القضايا - المراسلات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رض والطلب  -  أرشيف البيع  - أرشيف التأجير  - تقييم العقار - حساب النسب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خططات والخرائط  - المكاتب والعملاء -  الدلالين - المندوبين - حارس العقار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عقود  - وصولات  الإيجار -  ميزانية سنوية للعقار - أرباح وخسائر للعقار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إدارة عقارات الغير :  إدخال بيانات أصحاب العقارات - استعلام عن عقارات ما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عين  -  استعلام عن عقار مشترك مع تحديد نسبة الشركاء -  استعلامات أخرى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إضافة عقار  - إضافة مستأجرين  - تعديل بيانات عقار- حذف بيانات عقار- حذ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كل - تحويل عقار للأرشيف – اضافة شركاء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حسابات :  الايرادات - القيد اليومي - الصندوق- البنك  والفرع - إيداعات 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سحب من البنوك- استعلامات عن الحسابات- تقارير متعددة الصندوق والايرا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 كشوف عقار حسب   :  الدخل -  الحالة  -  المنطقة - السعر -  السوم - المح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قطعة  - الشارع -  صاحب العقار  - عقارات مشتركة – عقارات خاص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إيجارات : طلب تأجير - عقود الإيجارات - المتأخرين بسداد الإيجارات - الشق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لمستأجرة - الشقق الخالية- سلوكيات المستأجرين - التأمينات الخاصة بالمستأج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( كهرباء - مالي - تأمينات اخرى  )  - قضايا المستأجرين - متابعة القضايا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استعلامات القضايا  المستمرة والمنتهية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المصروفات والصيانة : أنواع الصيانة - أنواع المصروفات -  فواتير الصيانة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منفذ الصيانة - صيانة الوحدات والشقق - سندات صرف - استعلام عن مصرو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وصيانة عقار معين  -  استعلام عن كل العقارات معا -  استعلامات أخرى ع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صيانة والمصروفات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-  الأرشيف الإلكتروني : أرشيف العقارات المباعة -أرشيف العقارات التي تم تأجير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-  أرشيف الخرائط - أرشيف المستأجرين المنتهية  عقودهم – حافظة مستن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مستأجرين والاستعلام عنها حسب نوع المستند  – أرشيف صور العقارات -  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عرض ( عرض عقارات لدي المكتب  -  عرض عقارات لدي  الأفراد  -  عر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قـارات لدي العملاء-عرض عقارات للإيجار- عقارات تم بيعها – عقارات ت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تأجيرها - تقرير مصور عن العقار المعروض – صور عن العقار -عقارات مؤج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مراسلات والكتب الصادرة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طلب ( العقارات المطلوبة - حسب الشارع - حسب المنطقة - السعر- المندو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الحد  -  الحالة  -   تقرير مصور   عن العقار المطلوب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 استعلامات متعددة برقم العقار - باسم صاحب العقار- الشارع - المنطقة - القط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لسوم  - نوع العقار -  قيمة العقار -  الحالة - الحد  العميل أو المكتب - الدل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بتاريخ العرض - استعلام عن المستأجرين -  استعلام عن إيرادات عق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استعلام عن مصروفات   عقار -  استعلام عن مشاكل المستأجرين  -  استعل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عن الوحدات والشقق الخالية   -  مجموع المؤجر  -  مجموع الخالي  -   أخرى 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- المنبه الشخصي : إضافة رسائل تذكارية خاصة بكل مستخدم للبرنامج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        بالرسائل حسب الوقت المحدد من قبل المستخدم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Sultan normal"/>
              </a:rPr>
              <a:t> - تنبيه بالعقود التي انتهت مذ فترة ومطلوب تجدي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- نظام الصلاحيات للمستخدمين  :   تحديد الصلاحيات لكل مستخدم  -  إضا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مستخدمين -  حذف مستخدم  -  تغير   كلمة المرور –  تعديل وتغير صلاحي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مستخدمين من قبل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استخدام  وسرعة البحث  إمكانية التعديل والإضافة على البرنامج  مع إمك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مل البرنامج على الشبكة  (  إمكانية عمل نسخة  احتياطية من قاعدة ال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يدوى  أو  تلقائي بالإضافة إلى استرجاع قاعدة البيانات  في حالة حدوث تلف آ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عطل بالجهاز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كما يوجد شرح وافى على استخدام والتعامل مع نوافذ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                   ((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Arial"/>
              </a:rPr>
              <a:t>شعارنا خدمة ما بعد بيع البرنامج أهم من البرنامج</a:t>
            </a:r>
            <a:r>
              <a:rPr b="1" lang="ar-SA" sz="2400" spc="-1" strike="noStrike">
                <a:solidFill>
                  <a:srgbClr val="800080"/>
                </a:solidFill>
                <a:latin typeface="Arial"/>
                <a:ea typeface="Arial"/>
              </a:rPr>
              <a:t> 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3T00:02:59Z</dcterms:modified>
  <cp:revision>29</cp:revision>
  <dc:subject/>
  <dc:title>عرض تقديمي من PowerPoint</dc:title>
</cp:coreProperties>
</file>